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C83D-D564-4574-9062-831FEA10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DDB5-2468-4D83-A89D-33A88DAA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A51-B1CC-45A6-94A4-0CA12513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E107-26D8-4BB7-8E52-EBEC9FB2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0B79-8389-41A6-874C-03F2A1DC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487B-2A57-4B7E-835F-67A6EC09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6704-76F0-4DA0-8C1C-5B5F4F14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4978-8512-453E-A7CA-6D94ED43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7C82-FF29-4434-9601-E09B84F3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3428-466E-401D-A24B-2A4CAC7E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F170-4886-43EC-9881-E8BFCB7A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A607-F55D-4B41-BC58-CFF7C99E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D002-CAFF-4406-BD98-E998D180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613A-BE83-48D4-9587-A5A16E5C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A205-01CD-4752-9327-C88DA4CE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C660-FDC4-409B-880F-72A77122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EB68-623C-4EDA-BB6E-4DCD3730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352-918E-45FA-B793-768D9AD5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5BEE-0887-43D9-BFB8-6DA7E9A8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2E8-7859-4847-8625-F3560924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0885-D0CF-4D39-9FA2-9A88D679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96B-9A9A-476E-8536-1FA3D75D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B75-2CB2-48F4-ABBF-B1950074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F79-C411-41F4-9974-9E2AC0D5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A4B6-F03A-4D10-829E-1F5780B56C46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04CE-9179-405B-A49F-F831F5E2470B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Тема №6.</a:t>
            </a:r>
            <a:r>
              <a:rPr b="1" lang="uk-UA" sz="4800" spc="-1" strike="noStrike">
                <a:solidFill>
                  <a:srgbClr val="ccecff"/>
                </a:solidFill>
                <a:latin typeface="Arial"/>
              </a:rPr>
              <a:t>Процессуальные акты-документы по уголовным делам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Arial"/>
              </a:rPr>
              <a:t>1. Понятие, сущность и признаки процессуальных документов по уголовным делам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Arial"/>
              </a:rPr>
              <a:t>2. Виды процессуальных документов по уголовным дела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eaeaea"/>
                </a:solidFill>
                <a:latin typeface="Arial"/>
              </a:rPr>
              <a:t>3. Требования, предъявляемые к процессуальным документам по уголовным дела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602720" y="1735920"/>
            <a:ext cx="594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Виды процессуальных документов: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органам, их принимающим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кругу вопросов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процессуальному порядку принятия решения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форме изложения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содержанию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выполняемым задачам (по функциональному признаку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субъектам, правомочным принимать решения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времени принятия и длительности действия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форме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Times New Roman"/>
              </a:rPr>
              <a:t>по юридической силе и др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1.     </a:t>
            </a:r>
            <a:r>
              <a:rPr b="1" lang="de-DE" sz="3600" spc="-1" strike="noStrike">
                <a:solidFill>
                  <a:srgbClr val="ccecff"/>
                </a:solidFill>
                <a:latin typeface="Arial"/>
              </a:rPr>
              <a:t>Понятие, сущность и признаки 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</a:t>
            </a:r>
            <a:r>
              <a:rPr b="1" lang="de-DE" sz="3600" spc="-1" strike="noStrike">
                <a:solidFill>
                  <a:srgbClr val="ccecff"/>
                </a:solidFill>
                <a:latin typeface="Arial"/>
              </a:rPr>
              <a:t>роцессуальных документов по 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у</a:t>
            </a:r>
            <a:r>
              <a:rPr b="1" lang="de-DE" sz="3600" spc="-1" strike="noStrike">
                <a:solidFill>
                  <a:srgbClr val="ccecff"/>
                </a:solidFill>
                <a:latin typeface="Arial"/>
              </a:rPr>
              <a:t>головным</a:t>
            </a:r>
            <a:r>
              <a:rPr b="0" lang="de-DE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Arial"/>
              </a:rPr>
              <a:t>Уголовно-процессуальный закон устанавливает стро­го определенный порядок деятельности органов дозна­ния, предварительного следствия, прокуратуры и суда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ecff"/>
                </a:solidFill>
                <a:latin typeface="Arial"/>
              </a:rPr>
              <a:t>Уголовно-процессуальная форма обуславливает письменный характер уголовно судопроизводства наряду с такими принципами, как устность, непосредственность, непрерывность, гласность и т.д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04920" y="1870560"/>
            <a:ext cx="855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eaeaea"/>
                </a:solidFill>
                <a:latin typeface="Arial"/>
              </a:rPr>
              <a:t>Процессуальные действия участников уголовно-процессуальной деятельности, будучи облеченными в форму процессуального документа, получили в теории советского уголовного процесса наименование уголовно-процессуальных актов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0" lang="de-DE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ccecff"/>
                </a:solidFill>
                <a:latin typeface="Arial"/>
              </a:rPr>
              <a:t>Виды процессуальных документов по уголовным делам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eaeaea"/>
                </a:solidFill>
                <a:latin typeface="Arial"/>
              </a:rPr>
              <a:t>Уголовно-процессуальные акты делятся на два основных вида: протоколы и процессуальные решен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09480" y="260352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Arial"/>
              </a:rPr>
              <a:t>Лупинская П.А.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eaeaea"/>
                </a:solidFill>
                <a:latin typeface="Arial"/>
              </a:rPr>
              <a:t> «Решение в уголовном судопроизводстве - это облеченный в установленную законом процессуальную форму правовой акт, в котором  прокурор,  орган дознания, следователь и дознаватель в определенном законом порядке дают ответы на возникающие по делу правовые вопросы и выражают властное волеизъявление о действиях, вытекающих из установленных обстоятельств и предписаний закона, направленных на достижение задач уголовного судопроизводства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62120" y="256068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Arial"/>
              </a:rPr>
              <a:t>Документы имеют внешнюю (способ словесно-документального проявления уголовно-процессуального акта: текст документа и стиль его изложения в документе) и внутреннюю форму (части его структуры, располагаемые в строго логической последовательности и не противоречащие друг другу – вводная, описательно-мотивировочная и резолютивная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3.</a:t>
            </a:r>
            <a:r>
              <a:rPr b="0" lang="de-DE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ccecff"/>
                </a:solidFill>
                <a:latin typeface="Arial"/>
              </a:rPr>
              <a:t>Требования, предъявляемые к процессуальным документам по уголовным делам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Arial"/>
              </a:rPr>
              <a:t>Законодатель предъявляет такие требования к содержанию и форме документов, которые дают возможность судить, насколько правильно решено все дело или отдельный правовой вопрос, соответствует ли решение обстоятельствам дела (фактическому основанию) и правовым нормам (юридическому основанию)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297144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aeaea"/>
                </a:solidFill>
                <a:latin typeface="Arial"/>
              </a:rPr>
              <a:t>В документе, выражающем решение, должны быть отражены все черты и свойства, присущие решению как правовому акту, характеризующие законность и обоснованность решения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8T05:47:24Z</dcterms:created>
  <dc:creator>Пользователь</dc:creator>
  <dc:description/>
  <dc:language>en-US</dc:language>
  <cp:lastModifiedBy>Microsoft Office</cp:lastModifiedBy>
  <dcterms:modified xsi:type="dcterms:W3CDTF">2021-10-08T06:28:2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